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zorro-short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704E-6207-429B-B659-39D1E72E8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C73F-38D5-43EB-8823-84E8CDF63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B839-8012-4420-AAA8-C417BB718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7416-A527-4790-BD6B-C99225EA8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2F20-6D4D-41E7-B583-649E30FD4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A4AB-81DC-4762-A644-4E98C797F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3317-20DA-4259-A3D7-7D6383385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15FE-23B0-4363-B5BA-44A2B258C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F001-AB14-44DB-9B9F-F94CD42F6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2F39-F764-4565-9955-F97534E1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C113-7A38-4FCC-A28B-7AC083CB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1915-0920-43DA-AFC3-4F0646B5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4F9E4-BEE2-4C19-9D37-8FDC719CA8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zorro-short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952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le Class Review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43000" y="1143000"/>
            <a:ext cx="6934320" cy="2590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heel of Fortun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8120" y="1905120"/>
            <a:ext cx="2590560" cy="24066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2" name="zorro-short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20371800">
            <a:off x="4114440" y="12193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1968000">
            <a:off x="5181480" y="12952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8912400">
            <a:off x="502884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5274200">
            <a:off x="3429000" y="25138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2715200">
            <a:off x="396252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17734200">
            <a:off x="3581280" y="17524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20070000">
            <a:off x="4114800" y="12949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1968000">
            <a:off x="5181480" y="12952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rot="6499800">
            <a:off x="5485680" y="251424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rot="8912400">
            <a:off x="502884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rec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ive each student an index card with a number from 1-8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udents are instructed to write a review question, math problem, or spelling word on their car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he Spin Butt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the wheel hits the number on the index card, the student chooses who will receive the question on their car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rot="15274200">
            <a:off x="3429000" y="25138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rot="17734200">
            <a:off x="3581280" y="17524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rot="12715200">
            <a:off x="396252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rot="20070000">
            <a:off x="4114800" y="12949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rot="6499800">
            <a:off x="5485680" y="251424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rot="1968000">
            <a:off x="5181480" y="12952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rot="8912400">
            <a:off x="502884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20371800">
            <a:off x="4114440" y="12193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rot="15274200">
            <a:off x="3429000" y="25138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rot="20070000">
            <a:off x="4114800" y="12949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0" y="1066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2715200">
            <a:off x="396252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rot="1968000">
            <a:off x="5181480" y="12952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rot="15274200">
            <a:off x="3429000" y="25138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rot="6499800">
            <a:off x="5485680" y="251424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rot="20371800">
            <a:off x="4114440" y="12193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rot="17734200">
            <a:off x="3581280" y="17524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rot="8912400">
            <a:off x="502884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rot="12715200">
            <a:off x="396252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rot="20070000">
            <a:off x="4114800" y="12949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 rot="6499800">
            <a:off x="5485680" y="251424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4344000">
            <a:off x="5714640" y="182880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rot="20371800">
            <a:off x="4114440" y="12193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rot="1968000">
            <a:off x="5181480" y="12952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 rot="8912400">
            <a:off x="502884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 rot="17734200">
            <a:off x="3581280" y="17524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 rot="20371800">
            <a:off x="4114440" y="12193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5274200">
            <a:off x="3429000" y="25138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7734200">
            <a:off x="3581280" y="17524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2715200">
            <a:off x="396252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20070000">
            <a:off x="4114800" y="12949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6499800">
            <a:off x="5485680" y="251424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0T14:24:23Z</dcterms:created>
  <dc:creator>Connie Campbell</dc:creator>
  <dc:description/>
  <dc:language>en-US</dc:language>
  <cp:lastModifiedBy>Connie Campbell</cp:lastModifiedBy>
  <dcterms:modified xsi:type="dcterms:W3CDTF">2006-02-20T23:01:23Z</dcterms:modified>
  <cp:revision>6</cp:revision>
  <dc:subject/>
  <dc:title>Wheel of Fortune</dc:title>
</cp:coreProperties>
</file>